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E3AC-E6E0-4BDE-A580-91546E3C1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4AD8-D438-4113-A89E-6DFF5C52F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EC6B-DE5E-4C2F-95E0-3C46229AA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1BE-599D-4173-8BF9-2E0D6DAB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01C-7FCB-42E1-9901-0A626534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A01-8147-4F10-8E15-6A21BD16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665-785A-407F-A88C-0239378A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808B-BB54-4A11-9349-952173E1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737F-55AA-45FF-81C5-E262E44D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D288-68D2-4AE4-A3CF-374354AE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39C8-8230-4309-B51A-AD2A3C76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3617-920F-415C-B416-82A93E32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BE69-F2D8-4E10-ACEF-C519B0C7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3530-3F5A-4EC3-A120-5EA37A52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712-E89B-418E-AB90-424443EA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B2B0-ED6B-4488-ABE8-F2E63777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29BD-0CC1-4730-A8E8-6BB4D8BD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FFD8-D6A9-42FE-826E-C2EB00C5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F333-862E-44E5-84B4-07347CAD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51F9-6FFC-4299-A410-D60BA292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02F2-E377-44A9-9AE5-E4777467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F8D81-37DC-4768-98AD-6A4B2E10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3E24-85BF-4BA9-B35B-55265638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C205-F387-4186-96A1-0C9D1F7D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0480-482C-42DA-9D91-BF3BB0A4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FF6-B238-4705-ABF1-0E8ABA29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CBB5-EC43-4C7F-B74F-A7389942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397B-DFCA-4BF8-9C7F-2A01A069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5D83-3331-4394-8AF9-5C8154F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04F4-4661-4A90-B5E8-398AF702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F507-64FF-4096-9293-3B8DB457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F38A-9E1E-46A6-954F-BC2754ED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9E4F0-67F6-4F83-9C4D-F82AD24F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5576-BA38-47C8-AE0B-8CE4272A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EB093-A46B-4294-9C2E-0CF239BB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12E29-726A-4330-B103-D9A7CC5B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159-FA15-4F54-B514-EB68B3E3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BCB2B-F56E-462D-8C43-048E14AE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DCA5B-6BCA-4830-8F00-58711789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E9B52-B6CB-4103-BE6C-10711B0A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A1BF-4CAC-4909-8C0D-0CF419E6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4F45-0374-4DA0-82B0-8360C86F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C0E48-9FB4-4CE1-9FC7-4A2B68C4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4543-A004-4D86-BB5E-CD915449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1F36-A934-43EE-B8BA-9776942B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CEDD-4876-4D27-949F-D0DE8C4A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268-ADEE-46D1-B89B-54A47844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549-6432-4080-90D4-3F53F832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F1D-EE00-4245-9187-A6F6B4EA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D5B-1AA1-43E9-B95A-B07B3D4A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1EC-7E4F-48B2-AA22-234C03AD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CA8F-B7CD-4285-9912-07CDC832926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52BB-E701-454A-8457-0EE6751525E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CA04-4D3C-4891-9676-210A865BD038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959F-D990-4957-A492-B98CE14BDFE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53B2-6C45-4400-8A89-CD64B4485888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69C7-DBBB-42B7-941C-FBE51A5C077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8160"/>
            <a:ext cx="4767120" cy="609480"/>
            <a:chOff x="4376880" y="6248160"/>
            <a:chExt cx="4767120" cy="60948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75880"/>
              <a:ext cx="476712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8160"/>
              <a:ext cx="4762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47EC-5C05-424F-BCD0-21E8F1B788C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D701-6BF1-4747-A49D-168E840D2FE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472240" cy="1608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gust 24, 20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Lesson Plans (2 formal plans each da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Uni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 – 5 lessons for part-time teac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-planned with Co-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0 – 15 less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full tim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documentation in the PGP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usion of Aboriginal Content, Knowledge and Ways of Know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volvement in School and Communit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l visits /extra curr if I can swing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n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can use an evaluation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onnect my observations to the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ail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important source of evidence of what you are doing. Crucial for midterm and final 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finished if you have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r journal dated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PGP goal per l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21333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ite your cooperating teacher(s) so we can ALL read and add to your PGP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new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ile, Wikispaces, Google.do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kinterns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wart Resource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nations information and ideas from other teachers, O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/ Introdu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ship Over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, 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on/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- Cohort wiki: </a:t>
            </a:r>
            <a:r>
              <a:rPr b="0" lang="en-US" sz="1800" spc="-1" strike="noStrike">
                <a:solidFill>
                  <a:srgbClr val="03495c"/>
                </a:solidFill>
                <a:latin typeface="Arial"/>
              </a:rPr>
              <a:t>http://saskinterns.wikispaces.com/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(Responsible Learner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nd Lesson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 up /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and evalu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s/passwo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y stuf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handle your classroo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engage your stud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ing this skill will take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k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 of professiona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is named in the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ing is a no no, field tr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-129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0792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 site Extensive planning 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85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1619280" y="4437000"/>
            <a:ext cx="2928960" cy="1928880"/>
            <a:chOff x="1619280" y="4437000"/>
            <a:chExt cx="2928960" cy="1928880"/>
          </a:xfrm>
        </p:grpSpPr>
        <p:sp>
          <p:nvSpPr>
            <p:cNvPr id="288" name="Oval 16"/>
            <p:cNvSpPr/>
            <p:nvPr/>
          </p:nvSpPr>
          <p:spPr>
            <a:xfrm>
              <a:off x="1619280" y="44370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7"/>
            <p:cNvSpPr/>
            <p:nvPr/>
          </p:nvSpPr>
          <p:spPr>
            <a:xfrm>
              <a:off x="3405240" y="5151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91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mportant part of tea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it you want your learners to k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hows that it is what you will struggle with the m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planning/Specific plan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ekend upd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lc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introduce yoursel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oup will be your most important resource and suppo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arking on the most difficult task in which you have ever engag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g 4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 with your students, flexibility, takes the pressure off of you, FNMI, and offshoot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 things are not working o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have until November 15 to withdr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ships sometimes do not work the first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 problem to redo your inter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works out better than the situation you are in curr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hip will be the most difficult task you have ever under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ong job interview. 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work: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Idea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 Goal Tab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 should be prepared to teach their cooperating teacher about the PGP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dback 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useful part of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question you still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itter @j_wil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 717-23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966-76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242-01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y.wilson@usask.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75120" y="4687920"/>
            <a:ext cx="1120680" cy="603360"/>
            <a:chOff x="3975120" y="4687920"/>
            <a:chExt cx="1120680" cy="603360"/>
          </a:xfrm>
        </p:grpSpPr>
        <p:pic>
          <p:nvPicPr>
            <p:cNvPr id="212" name="Right Arrow 3" descr=""/>
            <p:cNvPicPr/>
            <p:nvPr/>
          </p:nvPicPr>
          <p:blipFill>
            <a:blip r:embed="rId1"/>
            <a:stretch/>
          </p:blipFill>
          <p:spPr>
            <a:xfrm>
              <a:off x="3975120" y="468792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6200" y="2097000"/>
            <a:ext cx="1121040" cy="603360"/>
            <a:chOff x="5956200" y="2097000"/>
            <a:chExt cx="1121040" cy="603360"/>
          </a:xfrm>
        </p:grpSpPr>
        <p:pic>
          <p:nvPicPr>
            <p:cNvPr id="219" name="Right Arrow 10" descr=""/>
            <p:cNvPicPr/>
            <p:nvPr/>
          </p:nvPicPr>
          <p:blipFill>
            <a:blip r:embed="rId2"/>
            <a:stretch/>
          </p:blipFill>
          <p:spPr>
            <a:xfrm>
              <a:off x="5956200" y="2097000"/>
              <a:ext cx="11210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603520" y="2097000"/>
            <a:ext cx="1120680" cy="603360"/>
            <a:chOff x="2603520" y="2097000"/>
            <a:chExt cx="1120680" cy="603360"/>
          </a:xfrm>
        </p:grpSpPr>
        <p:pic>
          <p:nvPicPr>
            <p:cNvPr id="222" name="Right Arrow 11" descr=""/>
            <p:cNvPicPr/>
            <p:nvPr/>
          </p:nvPicPr>
          <p:blipFill>
            <a:blip r:embed="rId3"/>
            <a:stretch/>
          </p:blipFill>
          <p:spPr>
            <a:xfrm>
              <a:off x="2603520" y="209700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400880" y="4005360"/>
            <a:ext cx="1120680" cy="603000"/>
            <a:chOff x="7400880" y="4005360"/>
            <a:chExt cx="1120680" cy="603000"/>
          </a:xfrm>
        </p:grpSpPr>
        <p:pic>
          <p:nvPicPr>
            <p:cNvPr id="225" name="Right Arrow 12" descr=""/>
            <p:cNvPicPr/>
            <p:nvPr/>
          </p:nvPicPr>
          <p:blipFill>
            <a:blip r:embed="rId4"/>
            <a:stretch/>
          </p:blipFill>
          <p:spPr>
            <a:xfrm>
              <a:off x="7400880" y="40053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of final evaluation to me by December 7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21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7280" y="4919760"/>
            <a:ext cx="1120680" cy="603000"/>
            <a:chOff x="1457280" y="4919760"/>
            <a:chExt cx="1120680" cy="603000"/>
          </a:xfrm>
        </p:grpSpPr>
        <p:pic>
          <p:nvPicPr>
            <p:cNvPr id="232" name="Right Arrow 17" descr=""/>
            <p:cNvPicPr/>
            <p:nvPr/>
          </p:nvPicPr>
          <p:blipFill>
            <a:blip r:embed="rId5"/>
            <a:stretch/>
          </p:blipFill>
          <p:spPr>
            <a:xfrm>
              <a:off x="1457280" y="49197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3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063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457200" y="2209680"/>
            <a:ext cx="7772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1828800"/>
          <a:ext cx="8305920" cy="48466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-2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3-4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5-6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egin Week 1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observing and team-tea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-op teacher for feedback and edit it for u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2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one lesson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llege supervisor for feedbac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3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two lessons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co-generated un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4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your second formal unit pl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5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half-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your second formal unit plan to your co-op teacher and college supervisor for feedba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6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Midterm assess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further units in preparation for full-time teach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380880" y="1752480"/>
          <a:ext cx="8458200" cy="49723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7-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9-1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2-1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7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full-time (three to five weeks or longer if you arrange i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second formal unit after edits (if necessar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8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additional units to your co-op teacher for feedback (they do not need to be okayed by your college superviso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9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ange to visit other classrooms/schools for professional development opportunities (scheduled for the final two weeks of the internship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2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creasing teaching to half-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o visit other classrooms/schools and professional development opportun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final assessment with your co-op teacher and send it to your college supervisor for feedback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059280" y="1905120"/>
          <a:ext cx="2819160" cy="495288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5-1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5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to visit, observe and possibly teach in areas that are outside your teaching areas. Visit with the school counselo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6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joy your time in the school. Ask for reference letters from co-op, principal, other teachers you may have worked with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September 21, 9:00am -  3:00 p.m. – 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Arial"/>
              </a:rPr>
              <a:t> October 19, 9:00 a.m. – 3:00 p.m. –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3 (half day):  the TC and Co-op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early and leave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absences to the college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communication with cooperating teacher and college supervis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pre- and post- conferences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planning and co-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01:02Z</dcterms:created>
  <dc:creator>user</dc:creator>
  <dc:description/>
  <dc:language>en-US</dc:language>
  <cp:lastModifiedBy>ETG 1 Education</cp:lastModifiedBy>
  <dcterms:modified xsi:type="dcterms:W3CDTF">2012-08-22T18:01:15Z</dcterms:modified>
  <cp:revision>81</cp:revision>
  <dc:subject/>
  <dc:title>Internship Orientation Seminar</dc:title>
</cp:coreProperties>
</file>